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558-8936-4907-88A2-1A40FE3B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4481-525D-4610-9DD6-3C621C74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C8D-4842-4304-9909-5CD303F4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844D-EBEA-4579-BA6F-066061A4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6A97-DD22-4D0A-B9C2-A60BB643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AA3A-1DFF-4C11-8771-28D9DE04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B96B-A6A1-463F-A859-5F840B92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2E31-8AFC-4067-978C-13BC9867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D581-31C5-43DB-AA03-D3A08A13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1C0D-637A-4494-8C2B-B31BDCCC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6F4D-EB31-47C1-9379-CBCFED4B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224-086D-4F02-82A0-A6F8B0CB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A47C-9EC7-4908-A9E7-E656CBE8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3CBB-22E7-4A43-923D-CBCD8DA8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AC96-4B16-4352-875E-A2ED4F5D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637D-1FCA-454B-BF3B-A6E8CA7D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6F95-3739-4C43-8CAF-8FB32671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4E8F-8FF5-4716-BE19-2C5CAA4D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53C-F22E-40FE-936E-B76FE61E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106-7720-4C04-81BF-D35045DB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116-7A6F-4C4F-9D2E-A9162793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03B-A715-4324-BE74-0EAABA64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1EB-A6F3-4C74-A5B8-5954AF91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9F9-DBEE-441C-9BDE-CA6D4024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A41E-4DFF-4BAA-9F24-9CC1C7883E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BB71-038B-406C-8188-2F70137228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66ff"/>
                </a:solidFill>
                <a:latin typeface="Comic Sans MS"/>
              </a:rPr>
              <a:t>Honduras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447372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honduras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ff"/>
                </a:solidFill>
                <a:latin typeface="Comic Sans MS"/>
              </a:rPr>
              <a:t>População De Hondur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População em 2003 6.669.789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População em 2008 7.639.32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689880" y="6991200"/>
          <a:ext cx="2154240" cy="19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89880" y="6991200"/>
                    <a:ext cx="215424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ff"/>
                </a:solidFill>
                <a:latin typeface="Comic Sans MS"/>
              </a:rPr>
              <a:t>Economia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ff"/>
                </a:solidFill>
                <a:latin typeface="Comic Sans MS"/>
              </a:rPr>
              <a:t>O Honduras é um dos países mais pobres do hemisfério ocidental e a sua economia é baseada na agricultura e a madeira foi afectada fortemente pelo fenômeno climático Del Niño em 1997, sobretudo pelos incêndios floresta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ff"/>
                </a:solidFill>
                <a:latin typeface="Comic Sans MS"/>
              </a:rPr>
              <a:t>Além das bananas e o café, principais os produtos agrícolas do país são os feijões, o algodão, o milho, o arroz, o sorgo e o açúcar; há também produtos lácteo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ff"/>
                </a:solidFill>
                <a:latin typeface="Comic Sans MS"/>
              </a:rPr>
              <a:t>Mineração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3366ff"/>
                </a:solidFill>
                <a:latin typeface="Comic Sans MS"/>
              </a:rPr>
              <a:t>Existe um grande complexo hidrelétrico a sudeste de San Pedro Sula, em El Cajón. Os principais recursos minerais do país são zinco, chumbo, prata e ouro, explorados, sobretudo nas minas de El Mochito. A exploração de petróleo é financiada pelo Banco Mundi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ff"/>
                </a:solidFill>
                <a:latin typeface="Comic Sans MS"/>
              </a:rPr>
              <a:t>Trabalho de geografia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3366ff"/>
                </a:solidFill>
                <a:latin typeface="Comic Sans MS"/>
              </a:rPr>
              <a:t>Nome:Renan Zanetti Ze Maconh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3366ff"/>
                </a:solidFill>
                <a:latin typeface="Comic Sans MS"/>
              </a:rPr>
              <a:t>Nome: Murilo Zanesco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3000" spc="-1" strike="noStrike">
                <a:solidFill>
                  <a:srgbClr val="3366ff"/>
                </a:solidFill>
                <a:latin typeface="Verdana"/>
              </a:rPr>
              <a:t>Ze bulax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3366ff"/>
                </a:solidFill>
                <a:latin typeface="Verdana"/>
              </a:rPr>
              <a:t>Nome: Igor ramos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3000" spc="-1" strike="noStrike">
                <a:solidFill>
                  <a:srgbClr val="3366ff"/>
                </a:solidFill>
                <a:latin typeface="Verdana"/>
              </a:rPr>
              <a:t>Xi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0:28:26Z</dcterms:created>
  <dc:creator>.</dc:creator>
  <dc:description/>
  <dc:language>en-US</dc:language>
  <cp:lastModifiedBy>E.E. Senador Filinto Muller</cp:lastModifiedBy>
  <dcterms:modified xsi:type="dcterms:W3CDTF">2009-09-10T18:45:57Z</dcterms:modified>
  <cp:revision>3</cp:revision>
  <dc:subject/>
  <dc:title>Honduras </dc:title>
</cp:coreProperties>
</file>